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D99F-6102-42BC-9613-A68152147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92B4-1723-4BFD-BAF2-2A9C0D3BDA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E8DA-8A62-4729-9902-1928A1A46A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A9E-A4B6-4FD4-BBBE-4FB8B88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EE4-6804-40D8-B232-76A081C0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2BF-7232-4A39-9FE9-C374651F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B0F4-B70F-438B-9FBD-D0C46CFA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3852-6B82-4774-8729-78166B66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9A24-5208-4CE2-BEDC-905D5C81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B600-33F4-4ECF-AC78-32369CB2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BCC3-6C0C-4B04-83DB-63B674CC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7F6C-58C4-473E-9749-5AABB4CF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A4B7-716A-4274-BF39-B7C7D34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A76D-5CFB-4513-8B0D-0D1182D8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CF1-F6ED-496E-8384-713C6A53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D6FF-914A-4EFC-812A-DF9912AE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2845-998E-47C0-8953-6FA4421D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AD80-0DA7-44B2-A8F8-2BC121B7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6B27-1807-471C-BEF9-75AA060F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6D61-B8D2-4346-81F7-E0873E09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EE066-0B20-42CE-9D0D-CA804E3C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6FE21-62C8-43F4-B5C3-B39C697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BAFE-B6FD-4DA2-A074-C59CD0B7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AB78-1D9D-4659-BD60-E8E4FD61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6F46-A7E1-486D-96D1-54BBB4B7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D8C-E3F9-458E-A01D-754C5FA9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909DE-6FF2-45E2-8779-DDF1F0AB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E9B20-852D-4EB0-8D43-2414D0F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F8728-3FF1-4D9B-A049-FDB187D1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6F95-3E0D-43D3-A40D-B343711F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D6A8-D19E-41B6-9582-C21A8825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2AE6-7EE9-4D89-97A9-8751D599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6A26-1A57-441F-B9E5-4B9D4DBF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F10C-D72C-4A3F-BE2E-01DA2151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4479-66BD-4AE9-A6B2-082BE04B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95247-19DE-4A70-8327-8CCDACE6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9DC-B356-4378-B3BA-35E29596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2BDA-5A45-475D-B7E5-E56C8810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232D-FAE0-49EC-B092-7C85D146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F4FA-0BA3-4225-82B8-CDB5E697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7578-E8DE-4FC9-AC82-AF83796B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F5A3B-0F18-4281-BC72-DCCA18B3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BD691-1D9F-4CAD-9A42-2F00E19F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535DA-0674-4EEF-A80A-13AFE8C9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A0DC-B311-4D6B-97FF-C9EF8E2B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B321-74B0-4E4C-BCCD-58B6844A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EF0D-4A87-4F4E-8D9B-BB0F7AFA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53B1-92BF-490D-97B2-9974B436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62FAD-53D6-4973-B18D-539C5C2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628C3-DBE4-4A8F-9663-4A7D8769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8786-CFF7-4357-8004-283CCA56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E9D09-BD6C-4E16-9FA0-E0257072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ADACE-5701-4AB6-B878-A60AB186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43788-6603-4E0C-93CB-3A9A89A9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E8490-35EB-4C7B-AF56-AD60C26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53A5-42DB-4353-9A7F-44247247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1923E-DEB7-4D0E-B7A9-2DC17778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D2659-44C7-4543-A715-C2EF6AE3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214-62C8-4C97-A469-7E37D471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512B-6B59-40E5-953F-A0E03C8C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D9267-4316-4DE7-A934-0D136DD9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153B1-BBF1-4F79-BC4D-D6E57CA9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C414E-5D53-45A1-8001-3BC918E0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A5DC8-D5F4-4C6C-AC34-4C27CCF2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C95DD-219F-4FCB-83A6-5D5304A4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95D64-ACC9-402B-9C7A-ED85122B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82DB-544A-4D09-8E82-F8D32875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CB9A2-C15F-4688-AAAD-C663A53E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63D21-BFFA-46AE-A5D2-F128C887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C6E9-F684-4CCF-8F31-64CA19AA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143F5-E59F-461D-A5AD-6EF153A6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0B970-5E3E-4909-B2F9-40385E89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CC37-C66A-48A2-B90D-8FBAFB29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A94D-B760-42F8-BF97-CEC6B55B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E1588-AFE7-4FD3-B417-87D9571B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68F8F-47E4-4680-AA3F-1F455262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DED28-61A6-4110-AB6E-92845BEB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A1C4E-1EF6-46B7-AA2C-7F625466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96318-F32A-48A4-A229-42F5DFA0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D9BE9-84DC-4C4C-9674-D90C26DC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E62-F5EB-43D9-897F-8BA7685C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193DE-0B1B-4CE2-8E0C-106BE6D4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3DCC0-EC83-41CA-82C5-E3D94F52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C2F88-52F6-4E43-A265-731AF97E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A874-560F-4EFA-AF86-7364FE168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99571-4BF4-4367-8132-E520DFB7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8FB-2A87-49C2-8E9A-A36C237F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8D80-7B38-4676-8BB3-75757472BFD5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5EAB-D955-4D71-9DEA-65DEDE7F8F45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ac66bb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e529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dc32b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13DA-108E-4CC0-B528-D979DF6A0190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3EF0-1C71-4E15-A5FD-19D011DFC1A1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dc32b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332E-A5EE-4192-9A15-0879B9EFF01F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3ED6-3E3D-4E5F-AA1B-C47AC77764AD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de6c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ac66bb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ac66b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de6c3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E53-F8DF-40EA-949A-D0A090160B14}" type="slidenum">
              <a:rPr b="0" lang="en-US" sz="12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rowmax.com/overhand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e0ec"/>
                </a:solidFill>
                <a:latin typeface="Consolas"/>
              </a:rPr>
              <a:t>overhand</a:t>
            </a:r>
            <a:br>
              <a:rPr sz="3600"/>
            </a:br>
            <a:r>
              <a:rPr b="0" lang="en-US" sz="3600" spc="-1" strike="noStrike">
                <a:solidFill>
                  <a:srgbClr val="fae0ec"/>
                </a:solidFill>
                <a:latin typeface="Consolas"/>
              </a:rPr>
              <a:t>softball throw</a:t>
            </a:r>
            <a:endParaRPr b="0" lang="en-US" sz="36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laina Lars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3" descr="throw graphic.jpg"/>
          <p:cNvPicPr/>
          <p:nvPr/>
        </p:nvPicPr>
        <p:blipFill>
          <a:blip r:embed="rId1"/>
          <a:stretch/>
        </p:blipFill>
        <p:spPr>
          <a:xfrm>
            <a:off x="2895480" y="3124080"/>
            <a:ext cx="3337200" cy="2086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Advanced thrower.jpg"/>
          <p:cNvPicPr/>
          <p:nvPr/>
        </p:nvPicPr>
        <p:blipFill>
          <a:blip r:embed="rId2"/>
          <a:stretch/>
        </p:blipFill>
        <p:spPr>
          <a:xfrm>
            <a:off x="2666880" y="2743200"/>
            <a:ext cx="388620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Jamie Age 12 years old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01" name="Content Placeholder 3" descr="Jamie.JPG"/>
          <p:cNvPicPr/>
          <p:nvPr/>
        </p:nvPicPr>
        <p:blipFill>
          <a:blip r:embed="rId1"/>
          <a:stretch/>
        </p:blipFill>
        <p:spPr>
          <a:xfrm>
            <a:off x="1752480" y="1784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Intermediate Overhand Throw Frame by Frame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03" name="Content Placeholder 3" descr="overhand throw fram by frame 001.jpg"/>
          <p:cNvPicPr/>
          <p:nvPr/>
        </p:nvPicPr>
        <p:blipFill>
          <a:blip r:embed="rId1"/>
          <a:stretch/>
        </p:blipFill>
        <p:spPr>
          <a:xfrm>
            <a:off x="533520" y="2057400"/>
            <a:ext cx="1766880" cy="228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4" descr="overhand throw fram by frame 002.jpg"/>
          <p:cNvPicPr/>
          <p:nvPr/>
        </p:nvPicPr>
        <p:blipFill>
          <a:blip r:embed="rId2"/>
          <a:stretch/>
        </p:blipFill>
        <p:spPr>
          <a:xfrm>
            <a:off x="1066680" y="1981080"/>
            <a:ext cx="3768840" cy="2590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overhand throw fram by frame 003.jpg"/>
          <p:cNvPicPr/>
          <p:nvPr/>
        </p:nvPicPr>
        <p:blipFill>
          <a:blip r:embed="rId3"/>
          <a:stretch/>
        </p:blipFill>
        <p:spPr>
          <a:xfrm>
            <a:off x="4114800" y="1981080"/>
            <a:ext cx="1981080" cy="2563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" descr="overhand throw fram by frame 004.jpg"/>
          <p:cNvPicPr/>
          <p:nvPr/>
        </p:nvPicPr>
        <p:blipFill>
          <a:blip r:embed="rId4"/>
          <a:stretch/>
        </p:blipFill>
        <p:spPr>
          <a:xfrm>
            <a:off x="6019920" y="1905120"/>
            <a:ext cx="2438280" cy="3155760"/>
          </a:xfrm>
          <a:prstGeom prst="rect">
            <a:avLst/>
          </a:prstGeom>
          <a:ln w="0">
            <a:noFill/>
          </a:ln>
        </p:spPr>
      </p:pic>
      <p:sp>
        <p:nvSpPr>
          <p:cNvPr id="407" name="TextBox 7"/>
          <p:cNvSpPr/>
          <p:nvPr/>
        </p:nvSpPr>
        <p:spPr>
          <a:xfrm>
            <a:off x="533520" y="53341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m too low 2) Opens up way too much &amp; too early 3)Elbow is leading                4) Arm extends to early 5) Glove drops 6) Arms crosses on follow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Jessica Age 13 years old 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09" name="Content Placeholder 3" descr="Jessica.JPG"/>
          <p:cNvPicPr/>
          <p:nvPr/>
        </p:nvPicPr>
        <p:blipFill>
          <a:blip r:embed="rId1"/>
          <a:stretch/>
        </p:blipFill>
        <p:spPr>
          <a:xfrm>
            <a:off x="1752480" y="1784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Advanced 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luent with their motion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Keep elbow u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all pointed behind for the perfect high fiv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You can see “L” shape perfectl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step, rotate, release and follow through is down by your kne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times only a short step is not needed due to upper body strengt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3" descr="advanced thrower 3.jpg"/>
          <p:cNvPicPr/>
          <p:nvPr/>
        </p:nvPicPr>
        <p:blipFill>
          <a:blip r:embed="rId1"/>
          <a:stretch/>
        </p:blipFill>
        <p:spPr>
          <a:xfrm>
            <a:off x="5334120" y="5257800"/>
            <a:ext cx="96336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Alaina Age 22 years old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14" name="Content Placeholder 3" descr="Alaina.JPG"/>
          <p:cNvPicPr/>
          <p:nvPr/>
        </p:nvPicPr>
        <p:blipFill>
          <a:blip r:embed="rId1"/>
          <a:stretch/>
        </p:blipFill>
        <p:spPr>
          <a:xfrm>
            <a:off x="1752480" y="1784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Difference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ginner has no “L” sha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ginner has no step or step with wrong foo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eginner keeps elbow low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mediate hesitates when getting to “L” sha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mediate  might shorten up follow through (see following slide)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has very fluent motio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is accurate and consisten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65760" indent="-3049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Follow through levels 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418" name="Content Placeholder 3" descr="untitled.bmp"/>
          <p:cNvPicPr/>
          <p:nvPr/>
        </p:nvPicPr>
        <p:blipFill>
          <a:blip r:embed="rId1"/>
          <a:stretch/>
        </p:blipFill>
        <p:spPr>
          <a:xfrm>
            <a:off x="4094280" y="2955960"/>
            <a:ext cx="1412640" cy="22287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beggner follow through.jpg"/>
          <p:cNvPicPr/>
          <p:nvPr/>
        </p:nvPicPr>
        <p:blipFill>
          <a:blip r:embed="rId2"/>
          <a:stretch/>
        </p:blipFill>
        <p:spPr>
          <a:xfrm>
            <a:off x="380880" y="1752480"/>
            <a:ext cx="3025800" cy="21337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http://t0.gstatic.com/images?q=tbn:8dAAIH17zJpBEM:http://i.ehow.com/images/ehows/steps/screwball7_L.jpg"/>
          <p:cNvPicPr/>
          <p:nvPr/>
        </p:nvPicPr>
        <p:blipFill>
          <a:blip r:embed="rId3"/>
          <a:stretch/>
        </p:blipFill>
        <p:spPr>
          <a:xfrm>
            <a:off x="5778360" y="1981080"/>
            <a:ext cx="31896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Similaritie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and Intermediate has “L” sha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and Intermediate has a ste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and Intermediate keeps elbow hig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, Intermediate and Beginner in “T” shape with ar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dvanced finishes follow through (see previous slid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heel spokes="2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Stages of Performance and Learning</a:t>
            </a:r>
            <a:br>
              <a:rPr sz="4000"/>
            </a:b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arly Learning – the overhand throw is inaccurate, inconsistent, inefficient, and stiff-looking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termediate Learning – the overhand throw is more accurate, more consistent, more efficient, and more relaxe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ter Learning - the overhand throw is accurate, consistent, efficient, and automatic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Reference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0400" indent="-267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owney, Greg (2009, February 1). Throwing Like a Girl’s Brain,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Neuroanthropology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. http://neuroanthropology.net/2009/02/01/throwing-like-a-girls-brain/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raun, Kokmeyer, , and Millett (2009). Shoulder Injuries in the Throwing Athlete,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The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 Journal of Bone and Jo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in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t Surgery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91:966-978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Zawrotny, Steve (January 2008).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Overload / Underload Training: How It Works &amp; Why Ball Players Should Use This Training Method, SiftedArticles.co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2040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Serial Skill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rowing is a serial skil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r upper and lower body is working against each other, to work together to make one motio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Your upper body is rotating and going backwards while your lower body is moving forwar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n your lower and upper body come together giving power to the targe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434340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Overhand Throwing Video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09320" y="274320"/>
            <a:ext cx="449604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Ten Step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282680"/>
            <a:ext cx="777240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There are ten steps for throwing a softbal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First you need to find the grip. Its mostly used using three fingers. But if your hand is big enough you can use two and place your thumb under ball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Your front foot should be at least at 45 degree angle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Thumbs apart and your glove should be pointing to targe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Your throwing arm should be up and in an a “L” shape. Your hand should be like your giving someone a high five behind you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Step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Twist and rotate with upper bod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ull glove hand into ches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Keep “L” shape with throwing arm and bring it forward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Release and snap with finger tip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rbel"/>
              </a:rPr>
              <a:t>Pull down and follow through (your back leg should take a step in front of you)       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4" descr="cartoon softball throw.jpg"/>
          <p:cNvPicPr/>
          <p:nvPr/>
        </p:nvPicPr>
        <p:blipFill>
          <a:blip r:embed="rId1"/>
          <a:stretch/>
        </p:blipFill>
        <p:spPr>
          <a:xfrm>
            <a:off x="3352680" y="5791320"/>
            <a:ext cx="68580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The Grip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85" name="Content Placeholder 3" descr="softball grip.jpg"/>
          <p:cNvPicPr/>
          <p:nvPr/>
        </p:nvPicPr>
        <p:blipFill>
          <a:blip r:embed="rId1"/>
          <a:stretch/>
        </p:blipFill>
        <p:spPr>
          <a:xfrm>
            <a:off x="1371600" y="178452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Cue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178452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ands together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eet apart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oint glove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High five behind you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tep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ul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ota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llow through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4e7ed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Corbel"/>
                <a:hlinkClick r:id="rId1"/>
              </a:rPr>
              <a:t>http://www.throwmax.com/overhand.htm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Throwing levels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89" name="Content Placeholder 3" descr="Begginer thrower.jpg"/>
          <p:cNvPicPr/>
          <p:nvPr/>
        </p:nvPicPr>
        <p:blipFill>
          <a:blip r:embed="rId1"/>
          <a:stretch/>
        </p:blipFill>
        <p:spPr>
          <a:xfrm>
            <a:off x="685800" y="1523880"/>
            <a:ext cx="2666880" cy="19814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intermdiate thrower.jpg"/>
          <p:cNvPicPr/>
          <p:nvPr/>
        </p:nvPicPr>
        <p:blipFill>
          <a:blip r:embed="rId2"/>
          <a:stretch/>
        </p:blipFill>
        <p:spPr>
          <a:xfrm>
            <a:off x="3581280" y="1523880"/>
            <a:ext cx="1414440" cy="2438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Advanced thrower.jpg"/>
          <p:cNvPicPr/>
          <p:nvPr/>
        </p:nvPicPr>
        <p:blipFill>
          <a:blip r:embed="rId3"/>
          <a:stretch/>
        </p:blipFill>
        <p:spPr>
          <a:xfrm>
            <a:off x="5334120" y="1371600"/>
            <a:ext cx="3298680" cy="3276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Beginner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4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akes a long time to get ball out of glov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Keeps elbow very low (below shoulder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ver gets fully extended with a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“L” shap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step or steps with the wrong foo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o follow through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Gets very distracted with things going on aroun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eeds to be in a closed environment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4" name="Picture 3" descr="throw graphic.jpg"/>
          <p:cNvPicPr/>
          <p:nvPr/>
        </p:nvPicPr>
        <p:blipFill>
          <a:blip r:embed="rId1"/>
          <a:stretch/>
        </p:blipFill>
        <p:spPr>
          <a:xfrm>
            <a:off x="3352680" y="5257800"/>
            <a:ext cx="18288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Maddy Age 20 Months</a:t>
            </a:r>
            <a:br>
              <a:rPr sz="4000"/>
            </a:b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pic>
        <p:nvPicPr>
          <p:cNvPr id="396" name="Content Placeholder 3" descr="Maddy.JPG"/>
          <p:cNvPicPr/>
          <p:nvPr/>
        </p:nvPicPr>
        <p:blipFill>
          <a:blip r:embed="rId1"/>
          <a:stretch/>
        </p:blipFill>
        <p:spPr>
          <a:xfrm>
            <a:off x="1752480" y="1784520"/>
            <a:ext cx="5639040" cy="4228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e0ec"/>
                </a:solidFill>
                <a:latin typeface="Consolas"/>
              </a:rPr>
              <a:t>Intermediate</a:t>
            </a:r>
            <a:endParaRPr b="0" lang="en-US" sz="4000" spc="-1" strike="noStrike">
              <a:solidFill>
                <a:srgbClr val="fae0ec"/>
              </a:solidFill>
              <a:latin typeface="Consolas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ight hesitate when getting arm to “L” sha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ave wrist back and ball to s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step by the lead foot is not along the throwing li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bow leadin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Does not snap releas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4e7e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ight shorten up follow throug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9" name="Picture 3" descr="advanced thrower 2.jpg"/>
          <p:cNvPicPr/>
          <p:nvPr/>
        </p:nvPicPr>
        <p:blipFill>
          <a:blip r:embed="rId1"/>
          <a:stretch/>
        </p:blipFill>
        <p:spPr>
          <a:xfrm>
            <a:off x="4038480" y="5486400"/>
            <a:ext cx="94788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8:15:08Z</dcterms:created>
  <dc:creator>DPS</dc:creator>
  <dc:description/>
  <dc:language>en-US</dc:language>
  <cp:lastModifiedBy>DPS</cp:lastModifiedBy>
  <dcterms:modified xsi:type="dcterms:W3CDTF">2011-04-12T04:57:15Z</dcterms:modified>
  <cp:revision>134</cp:revision>
  <dc:subject/>
  <dc:title>THROWING A Softball</dc:title>
</cp:coreProperties>
</file>